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EA2-003E-4228-B5BD-7BA6E9B4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5EAA-7FD9-472B-8151-93DEDC48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A3F-86A9-4F9C-A15A-3DA01904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6EA-4332-42E6-93D4-EBA60C53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C338-7209-461F-8764-3E055921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4EE-B3F7-409F-89DC-E4FEC75F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E28-C530-4037-A99F-AB32232A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08C-5417-4D70-BA02-3FB43A76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88F-72CF-417C-9AA1-5050FB13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84A-946E-438D-86D1-0480A110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7F4-8F67-449D-A5E8-1076F515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4B5-C0B7-47DA-B368-4ECA94C3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CB73-02AC-481D-84F9-AF0AFAE0D2D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sandro@unicamp.br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3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395280" y="652464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1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17"/>
          <p:cNvSpPr/>
          <p:nvPr/>
        </p:nvSpPr>
        <p:spPr>
          <a:xfrm>
            <a:off x="1475280" y="2349360"/>
            <a:ext cx="74822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Seminário em EA no SINGRE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presentação da EA como Política Públ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EC + MMA = OGEA + Política Nacional de R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3 Módulos Temá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Papel mobilizador da 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EA e os instrumentos da PNR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Experiências de EA em Comitês de Ba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Text Box 1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63640" y="2320920"/>
            <a:ext cx="73803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Volto à questã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que medida o Seminário foi “EDUCADOR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xercício de respeito à alteridad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entimento de pertencimento (“nosso grupo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xercício de Diálogo, de ouvir e f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nxergar-se numa produção cole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eixar-se interferir pelo Out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11280" y="3284640"/>
            <a:ext cx="844560" cy="190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58920" y="37242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258920" y="468144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257480" y="41958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244520" y="51544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1249200" y="5648400"/>
            <a:ext cx="19872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</a:t>
            </a:r>
            <a:r>
              <a:rPr b="1" lang="pt-BR" sz="2200" spc="-1" strike="noStrike" u="sng">
                <a:solidFill>
                  <a:srgbClr val="339933"/>
                </a:solidFill>
                <a:uFillTx/>
                <a:latin typeface="Tahoma"/>
              </a:rPr>
              <a:t>PARA A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11280" y="4869000"/>
            <a:ext cx="2104920" cy="126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914400" y="2133720"/>
            <a:ext cx="304920" cy="36543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403280" y="1989000"/>
            <a:ext cx="7388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EA e Gestão Ambien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ão diferentes? No qu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podem ser separadas? Pq nã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quais as vantagens e desvantage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quais os riscos da indiferenç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nesta sociedade moderna, tecnocrática, individualista, competitiva, produtivista, desumana, consumista, etc.,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1116000" y="227664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833400" y="3102120"/>
            <a:ext cx="784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  </a:t>
            </a: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ducação</a:t>
            </a: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 não transforma o mu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A Educação transforma </a:t>
            </a: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Pessoas transformam o </a:t>
            </a: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Mu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(Paulo Frei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140360" y="544500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535400" y="2336760"/>
            <a:ext cx="746676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000" spc="-1" strike="noStrike">
                <a:solidFill>
                  <a:srgbClr val="339933"/>
                </a:solidFill>
                <a:latin typeface="Tahoma"/>
              </a:rPr>
              <a:t>EA no Piracicaba-Capivari-Jundiai PCJ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ritérios de Pontuação de projetos de 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anual FEHIDRO de 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istema AQUAEDU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iálogo com ColetivosEducadores, SalasVer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651640" y="611028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516680" y="2320920"/>
            <a:ext cx="72597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questões a serem discutidas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gradeço 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andro Tonso, arquiteto e educador ambi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Faculdade de Tecnolog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Universidade Estadual de Campi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224784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600200" y="2438280"/>
            <a:ext cx="257040" cy="243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888840" y="2394000"/>
            <a:ext cx="304920" cy="400680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523880" y="3048120"/>
            <a:ext cx="6782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99"/>
                </a:solidFill>
                <a:latin typeface="Tahoma"/>
                <a:ea typeface="Times New Roman"/>
              </a:rPr>
              <a:t>Tecnicizada, Materialista, Compartimentada, Individualista, Competitiva, Globalizada, Hierarquizada, Superficial nas relações (“veloz”), em busca de eficiência Produtivista e ..., profundamente, EXCLUDENT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981080" y="2305080"/>
            <a:ext cx="44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SOCIEDADE MODER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295280" y="2247840"/>
            <a:ext cx="708660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“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ivemos em sociedades repugnantemente desiguais. Mas a desigualdade não nos basta. A igualdade, entendida como ‘mesmice’, acaba excluindo o que é diferente. Tudo o que é homogêneo tende a transformar-se em violência excludent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oaventura de Souza SA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14400" y="2851200"/>
            <a:ext cx="304920" cy="362592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62120" y="5619600"/>
            <a:ext cx="7924680" cy="6289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198080" y="5710320"/>
            <a:ext cx="7369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3399"/>
                </a:solidFill>
                <a:latin typeface="Tahoma"/>
                <a:ea typeface="Times New Roman"/>
              </a:rPr>
              <a:t>BONDER, DERSU, BAUMAN, BECK, GIDDENS, SANTOS ..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09480" y="5791320"/>
            <a:ext cx="257400" cy="242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914400" y="2565360"/>
            <a:ext cx="304920" cy="38163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1403280" y="2752560"/>
            <a:ext cx="727236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esenvolvimento Sustentáve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Crescimento ou Desenvolviment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Desenvolvimento ou Industrializaçã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Desenvolvimento = Qualidade de Vid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Qualidade de Vida = Felicidade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Felicidade = Consum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Consumo = Consumism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DS ou Sociedades Sustentáveis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971640" y="30430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914400" y="2851200"/>
            <a:ext cx="311040" cy="324180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403280" y="3213000"/>
            <a:ext cx="727236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O que é ser “Sustentável” 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 projeto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a ação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a idéia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a sociedade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971640" y="35002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50920" y="652464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550880" y="2367000"/>
            <a:ext cx="71769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Seminário em EA no SINGRE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cada um dos 3 mód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presentação do 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ivisão em grupos (50) e sub-grupos (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sub-grupo: discussão em rodízio + rel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grupo: 5 relatos + síntese observ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plenário: síntese dos observ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762120" y="762120"/>
            <a:ext cx="609480" cy="5619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763640" y="2320920"/>
            <a:ext cx="73803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Pergunta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que medida o Seminário foi “EDUCADOR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presentou novos conteúdo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Realizou aprofundamento conceitual... Enriqueceu-nos com trocas de informaçõ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 até aqui o foco está nos conteúdos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as, o que é EDUCAR (ambientalmente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611280" y="3284640"/>
            <a:ext cx="844560" cy="190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258920" y="37242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258920" y="468144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1257480" y="41958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1244520" y="51544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1249200" y="5648400"/>
            <a:ext cx="19872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995640" y="6381720"/>
            <a:ext cx="210528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1476360" y="2421000"/>
            <a:ext cx="72723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EDUCAÇÃO – EDUCAR – “E+DUCER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onduzir para “for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Quem conduz qu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Quem decide a direçã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e onde vem a força do caminh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914400" y="2565360"/>
            <a:ext cx="304920" cy="352764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1116000" y="2708280"/>
            <a:ext cx="287280" cy="289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1154160" y="386064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1144440" y="442908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1160640" y="4968720"/>
            <a:ext cx="215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1166760" y="5508720"/>
            <a:ext cx="21600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62120" y="762120"/>
            <a:ext cx="609480" cy="5835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292720" y="6453360"/>
            <a:ext cx="2104920" cy="126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14400" y="2851200"/>
            <a:ext cx="304920" cy="33861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476360" y="2421000"/>
            <a:ext cx="727236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EDUCAÇÃO num sentido LIBERTA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ensibiliz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Troca e Apropriação de Informa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entimos sobre o que sabem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Propiciar Posicionamento Polí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stimular a ação de transformação do mu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116000" y="2708280"/>
            <a:ext cx="287280" cy="289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154160" y="366084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1144440" y="4229280"/>
            <a:ext cx="21600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1160640" y="4768920"/>
            <a:ext cx="215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166760" y="530856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1149480" y="5834160"/>
            <a:ext cx="21564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62120" y="762120"/>
            <a:ext cx="609480" cy="5835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292720" y="6453360"/>
            <a:ext cx="2104920" cy="126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914400" y="2851200"/>
            <a:ext cx="304920" cy="33861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476360" y="2421000"/>
            <a:ext cx="727236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Reduzir EDUCAÇÃO aos conteúdo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“tecnicizar” um processo humano: M.Sa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transformar processo em produ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oder “certificar” e impor um mod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oder “avaliar” numeric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estabelecer parâmetro exter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116000" y="2708280"/>
            <a:ext cx="287280" cy="289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154160" y="366084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440" y="4229280"/>
            <a:ext cx="21600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1160640" y="4768920"/>
            <a:ext cx="215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166760" y="530856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49480" y="5834160"/>
            <a:ext cx="21564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47640" y="2349360"/>
            <a:ext cx="759636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Mas para realizar a EA Crítica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reciso me saber conhecedor de al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reciso quer ouvir o Outro (Alterida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(“dar voz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reciso saber que a questão é complexa e cole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ninguém resolve sozinh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a diversidade é funda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547640" y="2349360"/>
            <a:ext cx="759636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Educar e educar-se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 é tarefa daqueles que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sabem que pouco sabem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, e por isso sabem que sabem algo, e podem assim chegar a saber mais, em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diálogo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om aqueles que, quase sempre,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ensam que nada sabem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, para que estes, transformando seu saber que nada sabem em saber que pouco sabem,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possam igualmente saber mais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aulo Freire</a:t>
            </a:r>
            <a:r>
              <a:rPr b="1" lang="pt-BR" sz="2400" spc="-1" strike="noStrike">
                <a:solidFill>
                  <a:srgbClr val="0099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763640" y="2320920"/>
            <a:ext cx="73803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Volto à questã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que medida o Seminário foi “EDUCADOR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11280" y="3284640"/>
            <a:ext cx="844560" cy="190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258920" y="37242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258920" y="468144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1257480" y="41958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244520" y="51544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1249200" y="5648400"/>
            <a:ext cx="19872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0:37:06Z</dcterms:created>
  <dc:creator>Lelio Tonso</dc:creator>
  <dc:description/>
  <dc:language>en-US</dc:language>
  <cp:lastModifiedBy>Admin</cp:lastModifiedBy>
  <dcterms:modified xsi:type="dcterms:W3CDTF">2009-11-11T10:52:23Z</dcterms:modified>
  <cp:revision>36</cp:revision>
  <dc:subject/>
  <dc:title>Slide 1</dc:title>
</cp:coreProperties>
</file>